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851-985D-4340-A66C-1A2EFA08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0EA4-D692-4ABB-9864-518A2C2E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4D94-0838-46C4-A796-B6F32894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567D-6778-47EC-86A3-C524283E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CE2D-3681-4D50-A04D-4C64D92E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807D-E6B6-4C5E-99F4-DA54E885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539-2A5F-4275-8F6F-76E41A4B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D1D7-B2F0-4311-9C40-09C181E4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B09-D531-43F0-955F-ED34FA2E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A1A2-7CF9-48FF-958A-20FA4B2F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C53E-A8ED-40BA-90AE-1D315808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A6A5-127E-4719-99D1-74727E45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74F2-774F-40D2-8054-CBB8B822A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M.A.I.N.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AUSES OF WW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.A.I.N. 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lita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lick when ready to go 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9" nodeType="afterEffect" fill="hold" presetClass="entr" presetID="3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26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33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40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lita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 nation’s armed forces com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minate a country’s national poli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also a glorification of the mili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war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ck when ready to go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gned treaties in which each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volved pledges to defend the 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attacked by an aggres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ically, countries agreed to help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ck when ready to go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mination by one country over the politica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conomic or cultural life of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ntry or reg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e to the Industrial Revolution of the 1800s, some European nations had a large portion of the world under their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 coloni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ck when ready to go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Pride and patriotism in one’s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In terms of WWI, nationalism bec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gressive and subsequently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because of this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jor cause of international t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ck when ready to go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owder K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June 28, 1914, Gavrilo Princip a Serbian, assassinated Archduke Francis Ferdinand heir to the Austria Hungarian Th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ink about this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as this one event so important to the beginning of World War 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nd show when ready, then press back to return to the web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21:21:03Z</dcterms:created>
  <dc:creator>Margaret S Roache</dc:creator>
  <dc:description/>
  <dc:language>en-US</dc:language>
  <cp:lastModifiedBy>Administrator</cp:lastModifiedBy>
  <dcterms:modified xsi:type="dcterms:W3CDTF">2012-02-16T16:25:49Z</dcterms:modified>
  <cp:revision>25</cp:revision>
  <dc:subject/>
  <dc:title>MAIN  CAUSES OF WWI</dc:title>
</cp:coreProperties>
</file>